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15.png" ContentType="image/png"/>
  <Override PartName="/ppt/media/image30.jpeg" ContentType="image/jpe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100-0741-45F2-A622-F73285D0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214-CCEB-4F6B-ACAC-0BE49AD2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22F-B033-4437-BEF7-3824D631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19F-DA80-49FD-9376-446D2D47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1A17-3F11-4357-99A8-CDA029AA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ED2-0590-4321-9128-93EA9BA0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00B3-C810-4E12-826B-5964E1EE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5F2-AC68-4A6D-B82C-186CCD9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7428-F470-4DF0-A4EF-C7F3E11F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9F1E-CE40-4081-B021-56071F4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9935-D6FB-4758-8EA1-B1B0045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BB4-F40F-4493-A650-C35B7E16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854-422A-4AE9-9ECB-43DCE35E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5333-78D0-4200-819B-2EAA477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BB9-236F-41AE-8E13-2033220F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C7B1-AD08-433D-B1DA-45B1E065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3E0A-B869-4B1A-BA05-408E81FA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7BE-9628-4070-8254-BBD7F12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806-1215-4FD0-A76E-B86462B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B81-2B9D-492B-BCBD-D01E0D6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5A1-9F4D-4C53-8DF2-0484F0EA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F75-569A-49B8-8B66-AE84550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9CB-9835-46F1-BCB6-1AC49FC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6C3-9FEA-4433-8927-A0B08E32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24D-1C0F-4C7E-A8FA-0157FE1F0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FF5F-4862-4DAC-9384-D5C9E0BD8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 Black"/>
              </a:rPr>
              <a:t>www.TPMSA.co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1240" y="2287440"/>
            <a:ext cx="7315200" cy="294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Fallas de los Vehícu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25480" y="2190600"/>
            <a:ext cx="7175520" cy="268776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Conductores, Personal Administrativo y de Mantenimient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47720" y="1600200"/>
            <a:ext cx="5846760" cy="44197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Mantenimiento Preven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133720" y="1824120"/>
            <a:ext cx="4876560" cy="397188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Planos e Imágenes de los Vehícu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38440" y="1600200"/>
            <a:ext cx="5665680" cy="44197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Análisis de Lubrica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74760" y="1533600"/>
            <a:ext cx="6502320" cy="4263840"/>
          </a:xfrm>
          <a:prstGeom prst="rect">
            <a:avLst/>
          </a:prstGeom>
          <a:ln w="0">
            <a:noFill/>
          </a:ln>
        </p:spPr>
      </p:pic>
    </p:spTree>
  </p:cSld>
  <p:transition advTm="12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Ordenes de Trabajo</a:t>
            </a:r>
            <a:br>
              <a:rPr sz="3800"/>
            </a:b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Mantenimiento Correctiv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852560" y="1600200"/>
            <a:ext cx="5438880" cy="441972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Historial de Vehícu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628640" y="1638360"/>
            <a:ext cx="5886720" cy="43434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Reportes de Histor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14280" y="1793880"/>
            <a:ext cx="6524640" cy="36972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Presupuesto de Manteni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728800" y="1809720"/>
            <a:ext cx="3686400" cy="400068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Bodega de Repuest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724040" y="1647720"/>
            <a:ext cx="5695920" cy="432432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Black"/>
              </a:rPr>
              <a:t>Tricom Flotill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79360" y="1433520"/>
            <a:ext cx="6310440" cy="474516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Registro de Proveedo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85960" y="1738440"/>
            <a:ext cx="5572080" cy="4143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1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Bodega de Herramient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66760" y="1692360"/>
            <a:ext cx="6721560" cy="4222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Control de Accident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039760" y="1600200"/>
            <a:ext cx="5064480" cy="441972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Consumos de Combustibles, Baterías y Llant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7960" y="1515960"/>
            <a:ext cx="3886200" cy="3021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49520" y="3632040"/>
            <a:ext cx="3089160" cy="2567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859280" y="1521000"/>
            <a:ext cx="3613320" cy="375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Claves de Usuario y</a:t>
            </a:r>
            <a:br>
              <a:rPr sz="3800"/>
            </a:b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Niveles de Acces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5000" y="2448000"/>
            <a:ext cx="4734000" cy="2724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8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4200" spc="-1" strike="noStrike">
                <a:solidFill>
                  <a:srgbClr val="ffffff"/>
                </a:solidFill>
                <a:latin typeface="Arial Black"/>
              </a:rPr>
              <a:t>Tric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3400" y="2305080"/>
            <a:ext cx="7477200" cy="3009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pos de Mantenimiento Preven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050240" cy="216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iones y Subreg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16120" y="1512720"/>
            <a:ext cx="7413480" cy="45612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h</a:t>
            </a: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ícu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360440" y="1413000"/>
            <a:ext cx="6147000" cy="4744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Grupos de Vehícu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3120" y="2544840"/>
            <a:ext cx="7713720" cy="23590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untos y Sub-Puntos de Mantenimient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52640" y="1744560"/>
            <a:ext cx="6877080" cy="3419640"/>
          </a:xfrm>
          <a:prstGeom prst="rect">
            <a:avLst/>
          </a:prstGeom>
          <a:ln w="0">
            <a:noFill/>
          </a:ln>
        </p:spPr>
      </p:pic>
    </p:spTree>
  </p:cSld>
  <p:transition advTm="16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tegraci</a:t>
            </a: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ón de Planes de Mantenimient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325600"/>
            <a:ext cx="3886200" cy="2968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2676600"/>
            <a:ext cx="3886200" cy="226512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Registro de Datos Técnic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979560" y="1747800"/>
            <a:ext cx="7059600" cy="3471840"/>
          </a:xfrm>
          <a:prstGeom prst="rect">
            <a:avLst/>
          </a:prstGeom>
          <a:ln w="0">
            <a:noFill/>
          </a:ln>
        </p:spPr>
      </p:pic>
    </p:spTree>
  </p:cSld>
  <p:transition advTm="12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5T19:57:00Z</dcterms:created>
  <dc:creator>Osvaldo Morera</dc:creator>
  <dc:description/>
  <dc:language>en-US</dc:language>
  <cp:lastModifiedBy>Osvaldo Morera</cp:lastModifiedBy>
  <dcterms:modified xsi:type="dcterms:W3CDTF">2004-04-26T01:43:23Z</dcterms:modified>
  <cp:revision>8</cp:revision>
  <dc:subject/>
  <dc:title>Diapositiva 1</dc:title>
</cp:coreProperties>
</file>