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592-3DB9-4A8E-B289-EEC676DC1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7FD0-CD8E-4C3A-8385-FF26C8CC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A9D-5B95-4780-9DF9-4682F303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B151-A968-4050-AD48-1EE3B55B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F257-C961-47A2-B861-5C8340F4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7580-FCB6-491B-8B5F-472AF9EB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4A06-AA7C-4943-B86B-EE8C25E2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5DBF-844B-4D28-9BF0-E76C2FB3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2568-5D83-4636-B793-10C8B646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CA0D-031E-49C7-BECD-B7CAEBC2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1F07-B6E6-4758-BD2B-D6F52E4A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303-4268-4E0E-BB9F-44153603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28B9-823E-4760-8A14-6EA2FBC0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3804-BF65-41B7-AB74-128B0011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8796-D144-47E2-9D3F-5B30D9A7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A0E5-ED5D-410C-A733-5341C133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8B39-1890-4B89-BE8E-1D66072F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DE4A-B767-4F2A-8CB3-CF34ACAE8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C16-4D8B-4646-8454-F025CF9F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25D-5761-4E11-B22F-A9DD991F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719-0323-4A96-907B-017C3C90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CB7-49EA-42A7-B5F1-157BB3D4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B5F4-1294-45BB-A05A-95016780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E07-6063-45C8-8038-47B9FB54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FB78E-A34F-4130-92E3-978D795BBC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1318-0C2B-408D-82C4-4640F154A2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2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 Black"/>
              </a:rPr>
              <a:t>www.TPMSA.co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41240" y="2287440"/>
            <a:ext cx="7315200" cy="29433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egraci</a:t>
            </a: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ón de Pla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50920" y="1413000"/>
            <a:ext cx="5329440" cy="468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Registro de Datos Técnic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840360" cy="4638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2000"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Fallas de los Equip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93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Personal Administrativo y de Mantenimient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43200" y="1600200"/>
            <a:ext cx="5457600" cy="4419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Mantenimiento Preven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295360"/>
            <a:ext cx="3886200" cy="30276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48320" y="2293920"/>
            <a:ext cx="3886200" cy="303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Mantenimiento Predic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174760" y="1515960"/>
            <a:ext cx="5213520" cy="4587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Planos e Imágenes de los Equip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82720" y="1600200"/>
            <a:ext cx="5576760" cy="44197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Análisis de Lubrican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82720" y="1600200"/>
            <a:ext cx="5576760" cy="4419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2000">
    <p:comb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Mantenimiento Correctivo </a:t>
            </a:r>
            <a:br>
              <a:rPr sz="3800"/>
            </a:b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Solicitudes de Trabajos Correctivo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32120" y="1600200"/>
            <a:ext cx="5278320" cy="4419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Ordenes de Trabajo</a:t>
            </a:r>
            <a:br>
              <a:rPr sz="3800"/>
            </a:b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Mantenimiento Correctiv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346040" y="1397160"/>
            <a:ext cx="6289920" cy="4782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 Black"/>
              </a:rPr>
              <a:t>Tricom Industri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65360" y="1600200"/>
            <a:ext cx="5811840" cy="44197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Historial de Equip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677960" y="1600200"/>
            <a:ext cx="5786640" cy="4419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Reportes de Histori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154240" y="1600200"/>
            <a:ext cx="4835520" cy="441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Presupuesto de Mantenimi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690640" y="1447920"/>
            <a:ext cx="4125960" cy="44863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Bodega de Repuest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719360" y="1600200"/>
            <a:ext cx="5703840" cy="4419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Pedidos de Repuest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92360" y="1600200"/>
            <a:ext cx="5759280" cy="44197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Registro de Proveedo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85960" y="1738440"/>
            <a:ext cx="5572080" cy="4143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1000">
    <p:comb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ffffff"/>
                </a:solidFill>
                <a:latin typeface="Arial"/>
              </a:rPr>
              <a:t>Bodega de Herramient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990800" y="1555920"/>
            <a:ext cx="5173560" cy="44463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Índices de Mantenimiento</a:t>
            </a:r>
            <a:br>
              <a:rPr sz="3800"/>
            </a:b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Clase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870200" y="1496880"/>
            <a:ext cx="3359160" cy="2684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2187720" y="1768320"/>
            <a:ext cx="3473280" cy="26974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2565360" y="2073240"/>
            <a:ext cx="3348000" cy="26798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2854440" y="2347920"/>
            <a:ext cx="3405240" cy="2747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3230640" y="2657520"/>
            <a:ext cx="3359160" cy="26845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575160" y="2941560"/>
            <a:ext cx="3348000" cy="2684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3900600" y="3170160"/>
            <a:ext cx="3354120" cy="26733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4219560" y="3462480"/>
            <a:ext cx="3354480" cy="26841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9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0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20000"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Claves de Usuario y</a:t>
            </a:r>
            <a:br>
              <a:rPr sz="3800"/>
            </a:br>
            <a:r>
              <a:rPr b="0" lang="es-CR" sz="3800" spc="-1" strike="noStrike">
                <a:solidFill>
                  <a:srgbClr val="ffffff"/>
                </a:solidFill>
                <a:latin typeface="Arial"/>
              </a:rPr>
              <a:t>Niveles de Acceso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05000" y="2448000"/>
            <a:ext cx="4734000" cy="27241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8000"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R" sz="4200" spc="-1" strike="noStrike">
                <a:solidFill>
                  <a:srgbClr val="ffffff"/>
                </a:solidFill>
                <a:latin typeface="Arial Black"/>
              </a:rPr>
              <a:t>Tric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33400" y="2305080"/>
            <a:ext cx="7477200" cy="3009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agrama de Funcionami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504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ipos de Mantenimiento Preventiv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7050240" cy="2160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c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201080" cy="4392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re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116000" y="1484280"/>
            <a:ext cx="6696000" cy="4527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9000"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quip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489800" cy="4219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ar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58880" y="1600200"/>
            <a:ext cx="5826240" cy="4419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lanes de Mantenimient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90960" cy="4419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25600" y="6332400"/>
            <a:ext cx="1315800" cy="439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661160" y="6330960"/>
            <a:ext cx="1094040" cy="469800"/>
          </a:xfrm>
          <a:prstGeom prst="rect">
            <a:avLst/>
          </a:prstGeom>
          <a:ln w="0">
            <a:noFill/>
          </a:ln>
        </p:spPr>
      </p:pic>
    </p:spTree>
  </p:cSld>
  <p:transition advTm="16000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5T19:57:00Z</dcterms:created>
  <dc:creator>Osvaldo Morera</dc:creator>
  <dc:description/>
  <dc:language>en-US</dc:language>
  <cp:lastModifiedBy>Osvaldo Morera</cp:lastModifiedBy>
  <dcterms:modified xsi:type="dcterms:W3CDTF">2004-04-26T01:09:41Z</dcterms:modified>
  <cp:revision>7</cp:revision>
  <dc:subject/>
  <dc:title>Diapositiva 1</dc:title>
</cp:coreProperties>
</file>